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514-2887-4AF3-8471-A791FC66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992-7244-43DB-A64A-C94D5EBF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827-298D-4B9F-8E28-E24D56A8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018-A860-453F-8293-0BCB9490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257-3F8D-4369-9C35-72BA9925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582-E916-473D-929C-F2EB57BF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391-D860-4ED5-BA5E-84E62512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2E4-DD86-41D8-B77C-4DFE112F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74F-124E-4772-8DFE-A141E0AD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F31-DB65-4D6C-A90C-7CC0279A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1BF-612B-45C8-B099-8CBD517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235-D418-49C9-BD66-C79FAFF6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2A7-103B-4389-93DD-A0B337D07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627520" cy="126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11480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80010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7631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41:06Z</dcterms:created>
  <dc:creator>Graham</dc:creator>
  <dc:description/>
  <dc:language>en-US</dc:language>
  <cp:lastModifiedBy>Graham</cp:lastModifiedBy>
  <dcterms:modified xsi:type="dcterms:W3CDTF">2012-09-30T18:41:10Z</dcterms:modified>
  <cp:revision>1</cp:revision>
  <dc:subject/>
  <dc:title>Slide 1</dc:title>
</cp:coreProperties>
</file>